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0190-EC75-4188-ACB7-C81A7A8BD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366B-1575-447F-BBB6-AE204AE536F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02C4-4F18-45AB-837B-F96A9C0A5C7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 types of responses – like our strategy book – consider what students do a lot of and encourage growth in other areas (just like we don’t want them only reading horse books, expand the ways they can respond, and you may attract/engage students who are bored with more typical responses; Hancock mentions redirecting, refocusing, and expanding response when you write bac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7C2F-2321-44B2-8408-AF8E2B8CC14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this for your lesson plan response objecti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3EF7-125C-4AEC-8525-D328E59EDF9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BDB9-B070-47F4-B57B-330633E48D5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5CF7-B960-4A80-82C1-C7018FD2F57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1A52-D189-4D70-8095-786DBD27891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2DFD-4811-4D0B-A406-33FE6F3048F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4FC4-3E33-47FA-99A9-AC5DE5891A0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3180-B133-4B84-A173-444B0207C44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52B7-010B-4DCA-9D6A-7F53AA9D69E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er response portfolio: written, oral, art, favorite response; choice response; Why did I choose the response artifact? How does the response artifact reflects the literature read?  What does the artifact indicate about my growing confidence to respond to lit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E929-4C7C-44F0-9B7A-6A14F34DE98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0D5D-4EB6-4887-BDE8-4086A4FBE98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43FD-CDE1-4BB3-8F6F-315BE066BA4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7B1-2BAE-4C0C-9033-EBFC3AEE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9F2-ED65-4F00-A55C-48948A82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B4D-CBC9-4498-9615-50CB330B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21D-6946-4E91-B0C1-13049271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CCB2-C71F-42EA-9187-6D9175B9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5D7A-EDA9-4E00-8653-9CF8794B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7FEB-D5B7-4396-95E4-6428EAF2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5C56-D016-40B2-9496-A88A818F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F9DA-D430-4691-A2A0-73670158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CAC7-E04D-4342-9D5B-04C9A0A0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B617-1E96-4C0A-B0DC-5CC3BF56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218-E77B-4ED0-8D0B-5B2AA850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6FA5-B27A-4E82-A328-8678B863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4AE1-9A72-4C13-B0AB-3DB8CB0B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0943-79BF-4118-8765-0C998F5C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842A-1F3A-485A-8732-0C51E06C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429D-A55B-4368-8241-5AC58D39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22F-D0D8-40E4-83CA-725236A6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B95-7DF1-4026-A903-55EBEAB8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6F1-94DD-401F-9783-F747742E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97C-D8DB-4B15-AD9B-407729B7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8CC-6722-452E-9690-52A5665F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92C-DCA8-4F8F-A152-DA1091A9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50B-48DB-424F-9EDD-20370878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1A32-F33B-433C-B569-D140461CB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232B-18CA-4AEC-9989-B1D2F9CB5A49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Documenting and Assessing Responses to Literature and Comprehension Strategy Use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Literature Response Journals – contain elements of…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ersonal meaning-making respons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onitoring understanding – I see that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aking inferences – I think.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aking, validating, or invalidating predictions – I predict 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Expressing wonder or confusion – I wonder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 and plot involv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racter interaction – 1</a:t>
            </a:r>
            <a:r>
              <a:rPr b="0" lang="en-US" sz="2000" spc="-1" strike="noStrike" baseline="30000">
                <a:solidFill>
                  <a:srgbClr val="33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person – If I were him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racter assessment/judgment – That character is.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tory Involvement – pos/neg reactions as the plot unfolds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ry evalu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Literary criticism – author’s craft or styl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04240" y="6172200"/>
            <a:ext cx="80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TRA: Hancock article (1993) – see p. 472 for guidelin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Literature Response Journal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Hancock, 2008, p. 278-279)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do you begin to design literature journal prompt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Experiential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connect to personal experiences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Aesthetic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emotional interactions and character feelings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Cognitive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inferences, M&amp;MDAVIS)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Interpretative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personal judgment about meaning/message &amp; characters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sider these ideas for your “response objective” and center activity in your lesson plans!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ctivity: Documenting Response and Strategy Use in Literature Journals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Trade your Book Activity 9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unning Out of Time journal entries) with a partn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Look for evidence of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ancock’s response categori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ers Meaning, Char/Plot, Lit Eval); code all in the margin with PM, CP, and/or L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Look for evidence of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&amp;MDAVIS strategy u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; code all strategies in the margin with a single letter for ea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Note patterns of individual readers; The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rite a short summary of observa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in your own notebook and what you might teach n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5. Discuss patterns across the group as a whol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Coding Categories for Literature Response Journal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PM: Personal meaning-making responses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onitoring understanding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aking inferences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aking, validating, or invalidating predictions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Expressing wonder or confusion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CP: Character and plot involvement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Character interaction or assessment/judgment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tory Involvement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E: Literary evaluation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Literary criticism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64280" y="640080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ancock article (1993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5720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mprehension Strategy Us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Monitor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C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Making connec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Determining Impt.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Asking Ques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Visualiz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ferenc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Summariz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4495680" y="1981080"/>
            <a:ext cx="0" cy="4114800"/>
          </a:xfrm>
          <a:prstGeom prst="line">
            <a:avLst/>
          </a:prstGeom>
          <a:ln w="572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727520" y="640080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Kelly &amp; Clausen Grace (2008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cumenting Response Diversity and Strategy U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43000" y="2209680"/>
          <a:ext cx="6858000" cy="3926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rs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P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lo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i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Eval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sk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Vis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u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77"/>
          <p:cNvSpPr/>
          <p:nvPr/>
        </p:nvSpPr>
        <p:spPr>
          <a:xfrm>
            <a:off x="950760" y="6006960"/>
            <a:ext cx="7567560" cy="825480"/>
          </a:xfrm>
          <a:prstGeom prst="rect">
            <a:avLst/>
          </a:prstGeom>
          <a:solidFill>
            <a:srgbClr val="feffa5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his data inform the feedback you give to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articular student? What you teach next? To whom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cumenting Response Diversity and Strategy U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2209680"/>
          <a:ext cx="6858000" cy="3438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25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rs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P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lo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i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Eval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sk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Vis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u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</a:tr>
            </a:tbl>
          </a:graphicData>
        </a:graphic>
      </p:graphicFrame>
      <p:sp>
        <p:nvSpPr>
          <p:cNvPr id="128" name="Text Box 77"/>
          <p:cNvSpPr/>
          <p:nvPr/>
        </p:nvSpPr>
        <p:spPr>
          <a:xfrm>
            <a:off x="950760" y="6006960"/>
            <a:ext cx="7567560" cy="825480"/>
          </a:xfrm>
          <a:prstGeom prst="rect">
            <a:avLst/>
          </a:prstGeom>
          <a:solidFill>
            <a:srgbClr val="feffa5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his data inform the feedback you give to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articular student? What you teach next? To whom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cumenting Response Diversity and Strategy U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43000" y="2209680"/>
          <a:ext cx="6858000" cy="3438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25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rs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P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lo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i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Eval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sk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Vis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u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</a:tr>
            </a:tbl>
          </a:graphicData>
        </a:graphic>
      </p:graphicFrame>
      <p:sp>
        <p:nvSpPr>
          <p:cNvPr id="131" name="Text Box 77"/>
          <p:cNvSpPr/>
          <p:nvPr/>
        </p:nvSpPr>
        <p:spPr>
          <a:xfrm>
            <a:off x="950760" y="6006960"/>
            <a:ext cx="7567560" cy="825480"/>
          </a:xfrm>
          <a:prstGeom prst="rect">
            <a:avLst/>
          </a:prstGeom>
          <a:solidFill>
            <a:srgbClr val="feffa5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his data inform the feedback you give to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articular student? What you teach next? To whom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Tues, Nov. 23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Read Ch. 8 (Multicultural/International Lit)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*** Hand In Lesson Plan 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Nov. 30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EET WITH YOUR GROUP! for projec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Read Ch. 12 (Responding with drama, art, and music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Study for Quiz #2 (Nov. 19) 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Dec. 2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Quiz, Work on Book Festival Projects (if needed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Dec. 7 and 9: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00"/>
                </a:solidFill>
                <a:latin typeface="Arial"/>
              </a:rPr>
              <a:t>Book Activity 11</a:t>
            </a: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: International Children’s Digital Library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00"/>
                </a:solidFill>
                <a:latin typeface="Arial"/>
              </a:rPr>
              <a:t>Book Activity 12</a:t>
            </a: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: Poster Presentation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ick Write: Documenting Responses to Literatur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 about all the different ways that students might respond to the books they read. In the next three minutes, work with a partner to brainstorm as many ways as possible to “document” these reader responses in ways that can improve your teaching and learning.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Documenting Good Teaching and Learning in A Reading Clas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acher responds to student journal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ailing labe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ated to compare over time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Documenting Good Teaching and Learning in A Reading Clas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lor-coded stickers on journ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ortfolio – writing sampl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aw a picture and summarize in cap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uring reading summaries/monitor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udent checklists and reflections to help set goal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lecting main ideas/quotes &amp; refle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dentify princip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of assessment in response-based reading program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Describe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what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how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 you would docume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ading performance and growth over time (in a response-based program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Practice document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sponse type and comprehension strategy use in student journal entries and using this data to inform your feedback and instru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**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ee the connec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between these ideas and your lesson plans (response objectives, assessment ideas, rubrics, etc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inciples of Assessme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purpose of response-based assessment is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mprove teaching and learn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ssessment should be consistent with curricular goals (individual choice, interests, and performance over time)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reate lifelong learner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not just good test-takers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se-based assessment should involv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ultiple perspectives and sources of data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e.g., reader response portfolio - p. 441-442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atterns of Response </a:t>
            </a:r>
            <a:br>
              <a:rPr sz="4000"/>
            </a:b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to Literature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beginning of semester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4" name="Picture 3" descr="Picture 9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4129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789160" y="624852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ancock, Chapter 1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should you document in a Reader Response program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cument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program opportuniti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individual student performanc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linked to specific book titles over the course of the year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stening behavior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tact with Book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browsing, attention, proximity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mpulse to Shar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artner read, share/discus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ctions and Drama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eaders theater, role playing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rt, Music, and Constructed Product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draw,cook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ral Respon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etell, lit conversations, promp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ritten Respon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esponse journals, adapting writing using literature model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4" marL="178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Hancock p. 421 and 423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might you document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der response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ponse Checklist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- p. 421 and 423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eacher Anecdotal Record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- observations (stickies, mailing labels) accumulated by date (pair with students’ personal reflections over tim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aily reading log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rack # and type of book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ture Circle Conversa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eer and self evaluation) - see also “Grand Conversations”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ture response fi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rack varied types of response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Visual graph of strategy u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ubjective guidelines about quality of response (p. 424 and p. 430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57:33Z</dcterms:created>
  <dc:creator>Julie Coiro</dc:creator>
  <dc:description/>
  <dc:language>en-US</dc:language>
  <cp:lastModifiedBy>Julie Coiro</cp:lastModifiedBy>
  <cp:lastPrinted>2010-11-18T04:53:36Z</cp:lastPrinted>
  <dcterms:modified xsi:type="dcterms:W3CDTF">2010-11-18T17:20:35Z</dcterms:modified>
  <cp:revision>372</cp:revision>
  <dc:subject/>
  <dc:title>Metacognitive Strategy Instruction to Enhance Reading Comprehension</dc:title>
</cp:coreProperties>
</file>